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iveby.wav" ContentType="audio/x-wav"/>
  <Override PartName="/ppt/media/image4.jpeg" ContentType="image/jpeg"/>
  <Override PartName="/ppt/media/image3.wmf" ContentType="image/x-wmf"/>
  <Override PartName="/ppt/media/image5.gif" ContentType="image/gif"/>
  <Override PartName="/ppt/media/image6.wmf" ContentType="image/x-wmf"/>
  <Override PartName="/ppt/media/gunsho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951-CC33-4D11-B3E5-379E3A58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0EC-C135-4FA9-896B-78B779E2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25D-E329-4381-9E90-CA1F06F7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AF9-9061-4A88-B341-94186015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3DAF-BAFF-45DA-84E8-D0224723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2BF3-DAF2-4464-B4F7-AAEBB5DD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1AC2-85AE-4B4A-8148-0D92A4DA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3238-DD1B-46C6-A659-83BDA1CF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6AAD-35AA-4559-8C25-B6F4CE6C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2561-C097-4F35-84DC-8164F8A9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8FF2-1197-4864-ADC7-DA270CFF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911-203C-4DDD-8B3F-002B8F2C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6F47-F7EC-4F82-88BD-07D213B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7B5C-5B1F-4055-81DD-D7EDA3DE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1489-EC34-418A-A7EF-CB46EED9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3696-4877-4BE3-8C1F-BDABF2AA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726A-88E1-440B-9236-473FC323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D8A-7035-49FC-A9BF-875356BE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893-152E-4015-9FFD-87C0113D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A54-FA7F-4185-8B02-1487CD03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ECB-2013-44D9-882C-CD95D7F0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AA5-04D2-4B6B-ADE0-2E3725F9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F11-9D03-49C3-B5EB-176AAFFB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1BA-413C-4A36-848B-4FB4F47A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7422-CB79-42DC-BF29-2AD480490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FC63-7CB1-4273-A84F-1EE2A9AAD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Times New Roman"/>
              </a:rPr>
              <a:t>Персональный компьютер и здоровье ребен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56360" y="3860280"/>
            <a:ext cx="2479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упрова 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жина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уденты 636 груп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j0202027"/>
          <p:cNvPicPr/>
          <p:nvPr/>
        </p:nvPicPr>
        <p:blipFill>
          <a:blip r:embed="rId2"/>
          <a:stretch/>
        </p:blipFill>
        <p:spPr>
          <a:xfrm>
            <a:off x="971640" y="2997360"/>
            <a:ext cx="426708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тоговый этап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5640" y="1557360"/>
            <a:ext cx="5040360" cy="5040360"/>
          </a:xfrm>
          <a:custGeom>
            <a:avLst/>
            <a:gdLst>
              <a:gd name="textAreaLeft" fmla="*/ 1260000 w 5040360"/>
              <a:gd name="textAreaRight" fmla="*/ 3780360 w 5040360"/>
              <a:gd name="textAreaTop" fmla="*/ 0 h 5040360"/>
              <a:gd name="textAreaBottom" fmla="*/ 5040720 h 5040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3789360"/>
            <a:ext cx="16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789360"/>
            <a:ext cx="17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557360"/>
            <a:ext cx="1922400" cy="5091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щ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1628640"/>
            <a:ext cx="1706400" cy="489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ие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ллектив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из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цен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ывод!!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5406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ой принцип работы с детьми на компьютере – помоги, но не навред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ьютер- средство развития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17269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557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онова Л. А. Персональный компьютер и здоровье де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 и образование.-1997.-№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Старшова Н. В. Как помочь ребёнку сохранить здоровь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ий сад от А до Я.-2003.- №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C:\Program Files\Common Files\Microsoft Shared\Clipart\cagcat50\BS00554_.wmf"/>
          <p:cNvPicPr/>
          <p:nvPr/>
        </p:nvPicPr>
        <p:blipFill>
          <a:blip r:embed="rId2"/>
          <a:stretch/>
        </p:blipFill>
        <p:spPr>
          <a:xfrm>
            <a:off x="5003640" y="1916280"/>
            <a:ext cx="3975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сновополагающий вопрос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ужен ли ребенку компьютер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141720"/>
            <a:ext cx="3325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Проблемные вопрос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ет ли компьютер положительно влиять на здоровье ребенк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ет ли компьютер нанести вред здоровью ребенк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сделать компьютер помощником, а не вредителем для здоровья ребен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Цель и задачи: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60036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явить влияние компьютера на здоровье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обрать источники информации на тему: «Персональный компьютер и здоровье ребенк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формировать представления о влиянии компьютера на здоровье ребенка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ть рекомендации по использованию ПК в деятельности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copmputer" descr="Это не только мамин ноутбук:)"/>
          <p:cNvPicPr/>
          <p:nvPr/>
        </p:nvPicPr>
        <p:blipFill>
          <a:blip r:embed="rId2"/>
          <a:stretch/>
        </p:blipFill>
        <p:spPr>
          <a:xfrm>
            <a:off x="1619280" y="4581360"/>
            <a:ext cx="161928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Этапы работы над проектом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54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ициирующи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сновополагающи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агматически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ключительны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тоговы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11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e7ff"/>
                </a:solidFill>
                <a:latin typeface="Arial"/>
              </a:rPr>
              <a:t>Инициирующий этап: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00720" y="2133720"/>
            <a:ext cx="251928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ение темы, уточнение цели и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1628640"/>
            <a:ext cx="3961080" cy="3961080"/>
          </a:xfrm>
          <a:custGeom>
            <a:avLst/>
            <a:gdLst>
              <a:gd name="textAreaLeft" fmla="*/ 990360 w 3961080"/>
              <a:gd name="textAreaRight" fmla="*/ 2971080 w 3961080"/>
              <a:gd name="textAreaTop" fmla="*/ 0 h 3961080"/>
              <a:gd name="textAreaBottom" fmla="*/ 3961440 h 39610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270828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ор рабочей груп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3240" y="0"/>
            <a:ext cx="7971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сновополагающий этап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378936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383640" y="1557000"/>
            <a:ext cx="2520360" cy="504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4130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3645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3645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4280"/>
            <a:ext cx="1873080" cy="504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б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чей групп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реде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и и зада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4360" y="1557360"/>
            <a:ext cx="1728720" cy="504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мощь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из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нтез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блюд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тро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288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агматический этап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378936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1557360"/>
            <a:ext cx="5040360" cy="5040360"/>
          </a:xfrm>
          <a:custGeom>
            <a:avLst/>
            <a:gdLst>
              <a:gd name="textAreaLeft" fmla="*/ 1260000 w 5040360"/>
              <a:gd name="textAreaRight" fmla="*/ 3780360 w 5040360"/>
              <a:gd name="textAreaTop" fmla="*/ 0 h 5040360"/>
              <a:gd name="textAreaBottom" fmla="*/ 5040720 h 5040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3645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3573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557360"/>
            <a:ext cx="1812960" cy="5016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следова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бор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формац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628640"/>
            <a:ext cx="1728720" cy="482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блюд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уль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трол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общ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уч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ключительный этап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1197000"/>
            <a:ext cx="5040360" cy="5040360"/>
          </a:xfrm>
          <a:custGeom>
            <a:avLst/>
            <a:gdLst>
              <a:gd name="textAreaLeft" fmla="*/ 1260000 w 5040360"/>
              <a:gd name="textAreaRight" fmla="*/ 3780360 w 5040360"/>
              <a:gd name="textAreaTop" fmla="*/ 0 h 5040360"/>
              <a:gd name="textAreaBottom" fmla="*/ 5040720 h 5040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357336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573360"/>
            <a:ext cx="22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ятельность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197000"/>
            <a:ext cx="1512720" cy="511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форм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ценка сво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1268280"/>
            <a:ext cx="1706400" cy="489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блюд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мощь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еспеч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8:26:13Z</dcterms:created>
  <dc:creator>Студент</dc:creator>
  <dc:description/>
  <dc:language>en-US</dc:language>
  <cp:lastModifiedBy>Admin</cp:lastModifiedBy>
  <dcterms:modified xsi:type="dcterms:W3CDTF">2009-05-29T12:02:11Z</dcterms:modified>
  <cp:revision>8</cp:revision>
  <dc:subject/>
  <dc:title>Персональный компьютер и здоровье ребенка</dc:title>
</cp:coreProperties>
</file>